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874-E305-4C16-BEFF-F1352D1A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ACE-96FB-42D2-9B03-D4E255CA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0A7-77BD-453A-A81B-3BE1A7CE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FEA-5684-4DA4-98CD-E39626D5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CE9-9155-438C-9499-779F1FC3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830-8C75-4E75-A679-6A920C09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A3D-091B-40D7-87A9-66B942D2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A36-9D67-463C-9A34-3090368B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74E-3E0B-4B2D-868B-78C5E889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5D2-D8E7-4DD1-8B9A-A2ABAEE9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D57-0E62-40BB-A56E-CEEEA4A5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EBC-5609-47D1-85C7-1E009D90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EBC2-4219-4499-8A24-F2D396141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938320" y="533520"/>
            <a:ext cx="32673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ur Schoo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y Rebecc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il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logo1" descr=""/>
          <p:cNvPicPr/>
          <p:nvPr/>
        </p:nvPicPr>
        <p:blipFill>
          <a:blip r:embed="rId1"/>
          <a:stretch/>
        </p:blipFill>
        <p:spPr>
          <a:xfrm>
            <a:off x="533520" y="2619360"/>
            <a:ext cx="35812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209680" y="304920"/>
            <a:ext cx="41911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About Me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31240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y name is Rebecca Da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go to Glenboi Primary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have a wonderful teacher called Mrs Wil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am in year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43080" y="533520"/>
            <a:ext cx="4857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hat is in my school?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95480"/>
            <a:ext cx="5867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five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ff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ig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armony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4 yards to play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compute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0" y="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y Teache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914400"/>
            <a:ext cx="563904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s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s Har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s Matt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s Wil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s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ss 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s Th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s Dix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ss 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s Atte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 Ro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1219320"/>
            <a:ext cx="2819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Rob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Da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19520" y="380880"/>
            <a:ext cx="3352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y da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523880"/>
            <a:ext cx="28958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ndwr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emb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y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unch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.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y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.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2:14:09Z</dcterms:created>
  <dc:creator>4glenb2</dc:creator>
  <dc:description/>
  <dc:language>en-US</dc:language>
  <cp:lastModifiedBy>4glenb2</cp:lastModifiedBy>
  <dcterms:modified xsi:type="dcterms:W3CDTF">2009-09-30T12:52:00Z</dcterms:modified>
  <cp:revision>1</cp:revision>
  <dc:subject/>
  <dc:title>PowerPoint Presentation</dc:title>
</cp:coreProperties>
</file>